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43FA-7F5A-41D4-9420-955E52CD57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1003-F0A2-431D-A7B8-A102955321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8BF4-6B23-4689-84AA-3AFA9D374F2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97A0-E4E1-460D-AC57-F244E23AA2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119-5DF9-4407-A05C-6F645636A49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CAF-8E84-4EB9-828A-913B995B640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E13-7305-45BE-AA7C-9133DAC3B1A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DAB1-8372-48BB-ABE7-019F13103D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070D-3976-4561-8BA1-9C390D9051E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295-7A86-4FFB-98D6-C16549EA23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9296-F283-4F03-97A7-4DFC1FB2A11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401-252F-43FE-AC4D-BFF060657E8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E36D-A8B9-4DFB-A785-042E028D4F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71E7-CD47-4A4A-88C9-8AFE587127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FD74-E5DC-4D36-9956-5199783246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E46-92AF-4C6C-BE54-63CFA28591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7A07-EB9C-45B5-9C86-52F127DD80E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D44B-12BC-481F-A78E-60141A6A761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5C2-3793-4D11-B1B2-D2532D5C01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B3D8-C595-4955-AA2C-0B4D94E14D4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497C-D1AB-4D1B-9E32-AAC510FEC6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F73-8759-47D3-BCE7-29772AF239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443-8444-469E-8CAA-477620856A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1BD-4571-4AB3-8115-CECB41848D9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E2D0-E2F3-4148-91EC-7BE2D56104E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17E9-A1B1-41A6-AB3D-387E15E3B7F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569-B800-43BE-B70E-4DE82A3699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8D1-D174-4B66-BB56-4A608E45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283-E200-44DC-ABE5-C30BE65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CD8-D0C6-4C89-885A-8BE096D0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424-E838-40EE-A732-E1433596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77C-223C-48D7-9A31-472400A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B03-F850-4B05-ABAE-6EF89C2E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6D3-EEAA-48F2-8149-86E5EBC3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23D-894C-4588-A70A-D8D8DB68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B19-B803-4CFB-B568-D4A00D0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817-835B-4295-A94A-DF1FE6A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C63-0D8B-4DB2-8FD4-BCA34D3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A32-EB60-4263-A985-DFCB456A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A54-173D-4EF6-A2E3-42EDBD698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-153720" y="1828800"/>
            <a:ext cx="93722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лектрохемијски основи проц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ОКСИДО-РЕДУ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295280" y="35053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888680" y="6510240"/>
            <a:ext cx="130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недељ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332000" y="4191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533520" y="533520"/>
            <a:ext cx="77724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Оксидациона</a:t>
            </a:r>
            <a:r>
              <a:rPr b="0" lang="en-US" sz="5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sr-CS" sz="5400" spc="-1" strike="noStrike">
                <a:solidFill>
                  <a:srgbClr val="790015"/>
                </a:solidFill>
                <a:latin typeface="Arial"/>
              </a:rPr>
              <a:t>стањ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454760" y="1523880"/>
            <a:ext cx="554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3733920" y="17524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5200" y="2743200"/>
          <a:ext cx="8848800" cy="3840120"/>
        </p:xfrm>
        <a:graphic>
          <a:graphicData uri="http://schemas.openxmlformats.org/drawingml/2006/table">
            <a:tbl>
              <a:tblPr/>
              <a:tblGrid>
                <a:gridCol w="4424400"/>
                <a:gridCol w="442440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Oksi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dan reaktant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kciono sredstvo se oksid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r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gubi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nk se oksiduje pa  je redukciono sredstv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cinka raste od 0 do 2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edukci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gi reaktant prima elekt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o sredstvo se reduku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n vodonika dobija elektro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onik je oksidaciono sredstvo i pritom se redukuj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ksidacioni broj opada od +1 na 0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9"/>
          <p:cNvSpPr/>
          <p:nvPr/>
        </p:nvSpPr>
        <p:spPr>
          <a:xfrm>
            <a:off x="53352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447200" y="305604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3597120" y="33703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-313920" y="371160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            +1                  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2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1479600" y="418464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479600" y="4489560"/>
            <a:ext cx="39463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1515240" y="4570560"/>
            <a:ext cx="189216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ксид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2479680" y="408456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2479680" y="4313160"/>
            <a:ext cx="437832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6858000" y="408420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3458520" y="373680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739800" y="5083200"/>
            <a:ext cx="312408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је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оксиду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2073240" y="1028880"/>
            <a:ext cx="3581280" cy="15570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ма електр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ста се редукуј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о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own Arrow 18"/>
          <p:cNvSpPr/>
          <p:nvPr/>
        </p:nvSpPr>
        <p:spPr>
          <a:xfrm>
            <a:off x="930240" y="3665520"/>
            <a:ext cx="152280" cy="129528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p Arrow 19"/>
          <p:cNvSpPr/>
          <p:nvPr/>
        </p:nvSpPr>
        <p:spPr>
          <a:xfrm>
            <a:off x="2606760" y="2598840"/>
            <a:ext cx="75960" cy="457200"/>
          </a:xfrm>
          <a:prstGeom prst="upArrow">
            <a:avLst>
              <a:gd name="adj1" fmla="val 50000"/>
              <a:gd name="adj2" fmla="val 50158"/>
            </a:avLst>
          </a:prstGeom>
          <a:solidFill>
            <a:srgbClr val="92d050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2"/>
          <p:cNvSpPr/>
          <p:nvPr/>
        </p:nvSpPr>
        <p:spPr>
          <a:xfrm flipV="1">
            <a:off x="5425920" y="4113360"/>
            <a:ext cx="0" cy="390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Оксидоредукцион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а се мож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431360" y="1447920"/>
            <a:ext cx="64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+ 2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697200" y="17478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235160" y="18907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1235160" y="2195640"/>
            <a:ext cx="3908520" cy="14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V="1">
            <a:off x="5124600" y="18475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2445480" y="2475000"/>
            <a:ext cx="173052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2666880" y="2133720"/>
            <a:ext cx="3962520" cy="190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6629400" y="1942920"/>
            <a:ext cx="0" cy="2286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355360" y="2455920"/>
            <a:ext cx="1665000" cy="459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Реду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2328480" y="3352680"/>
            <a:ext cx="40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(s)          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930400" y="363384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329200" y="4114800"/>
            <a:ext cx="37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q) +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g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3938760" y="44197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1600200" y="3276720"/>
            <a:ext cx="5562720" cy="13716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455560" y="4800600"/>
            <a:ext cx="30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431640" y="104148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S + 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3270240" y="13032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304920" y="233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1374480" y="2527200"/>
            <a:ext cx="6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42"/>
          <p:cNvCxnSpPr/>
          <p:nvPr/>
        </p:nvCxnSpPr>
        <p:spPr>
          <a:xfrm>
            <a:off x="2066400" y="281268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Rectangle 43"/>
          <p:cNvSpPr/>
          <p:nvPr/>
        </p:nvSpPr>
        <p:spPr>
          <a:xfrm>
            <a:off x="2675160" y="2495520"/>
            <a:ext cx="7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4"/>
          <p:cNvSpPr/>
          <p:nvPr/>
        </p:nvSpPr>
        <p:spPr>
          <a:xfrm>
            <a:off x="13892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45"/>
          <p:cNvCxnSpPr/>
          <p:nvPr/>
        </p:nvCxnSpPr>
        <p:spPr>
          <a:xfrm>
            <a:off x="2101320" y="4476240"/>
            <a:ext cx="58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TextBox 46"/>
          <p:cNvSpPr/>
          <p:nvPr/>
        </p:nvSpPr>
        <p:spPr>
          <a:xfrm>
            <a:off x="2760840" y="4216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7"/>
          <p:cNvSpPr/>
          <p:nvPr/>
        </p:nvSpPr>
        <p:spPr>
          <a:xfrm flipH="1">
            <a:off x="1959120" y="215892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8"/>
          <p:cNvSpPr/>
          <p:nvPr/>
        </p:nvSpPr>
        <p:spPr>
          <a:xfrm flipH="1">
            <a:off x="2011320" y="382284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9"/>
          <p:cNvSpPr/>
          <p:nvPr/>
        </p:nvSpPr>
        <p:spPr>
          <a:xfrm>
            <a:off x="1892160" y="2813040"/>
            <a:ext cx="13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0"/>
          <p:cNvSpPr/>
          <p:nvPr/>
        </p:nvSpPr>
        <p:spPr>
          <a:xfrm flipH="1">
            <a:off x="1965240" y="453384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51"/>
          <p:cNvSpPr/>
          <p:nvPr/>
        </p:nvSpPr>
        <p:spPr>
          <a:xfrm>
            <a:off x="3930480" y="2527200"/>
            <a:ext cx="0" cy="2378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4205160" y="2438280"/>
            <a:ext cx="4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3"/>
          <p:cNvSpPr/>
          <p:nvPr/>
        </p:nvSpPr>
        <p:spPr>
          <a:xfrm>
            <a:off x="4332240" y="4216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 flipH="1">
            <a:off x="754920" y="7333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522440" y="7160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792600" y="75240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795280" y="7542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4110840" y="3319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272880" y="53928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S + 8N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8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       </a:t>
            </a:r>
            <a:r>
              <a:rPr b="1" lang="sr-Latn-R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8NO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Cu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</a:t>
            </a: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4"/>
          <p:cNvSpPr/>
          <p:nvPr/>
        </p:nvSpPr>
        <p:spPr>
          <a:xfrm>
            <a:off x="3675240" y="565452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4"/>
          <p:cNvSpPr/>
          <p:nvPr/>
        </p:nvSpPr>
        <p:spPr>
          <a:xfrm>
            <a:off x="324000" y="53352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 flipH="1">
            <a:off x="314280" y="2679840"/>
            <a:ext cx="63309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904640" y="2679840"/>
            <a:ext cx="258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4"/>
          <p:cNvSpPr/>
          <p:nvPr/>
        </p:nvSpPr>
        <p:spPr>
          <a:xfrm>
            <a:off x="3886200" y="303372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1"/>
          <p:cNvSpPr/>
          <p:nvPr/>
        </p:nvSpPr>
        <p:spPr>
          <a:xfrm>
            <a:off x="2585880" y="1736640"/>
            <a:ext cx="105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486000" y="22068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 flipH="1">
            <a:off x="304920" y="120636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96880" y="114300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2705040" y="541980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690480" y="8319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2293920" y="77328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3389400" y="7570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4287960" y="74772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 flipH="1">
            <a:off x="608040" y="243360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5"/>
          <p:cNvSpPr/>
          <p:nvPr/>
        </p:nvSpPr>
        <p:spPr>
          <a:xfrm>
            <a:off x="690480" y="20034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4"/>
          <p:cNvSpPr/>
          <p:nvPr/>
        </p:nvSpPr>
        <p:spPr>
          <a:xfrm flipV="1">
            <a:off x="1371600" y="269532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 flipH="1">
            <a:off x="2328840" y="2433600"/>
            <a:ext cx="7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8"/>
          <p:cNvSpPr/>
          <p:nvPr/>
        </p:nvSpPr>
        <p:spPr>
          <a:xfrm>
            <a:off x="2457360" y="19796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1371600" y="2822400"/>
            <a:ext cx="9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405080" y="210816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4"/>
          <p:cNvSpPr/>
          <p:nvPr/>
        </p:nvSpPr>
        <p:spPr>
          <a:xfrm flipV="1">
            <a:off x="1371600" y="2696760"/>
            <a:ext cx="83808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3"/>
          <p:cNvSpPr/>
          <p:nvPr/>
        </p:nvSpPr>
        <p:spPr>
          <a:xfrm flipH="1">
            <a:off x="786600" y="3983040"/>
            <a:ext cx="46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4"/>
          <p:cNvSpPr/>
          <p:nvPr/>
        </p:nvSpPr>
        <p:spPr>
          <a:xfrm>
            <a:off x="870120" y="355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5"/>
          <p:cNvSpPr/>
          <p:nvPr/>
        </p:nvSpPr>
        <p:spPr>
          <a:xfrm>
            <a:off x="2635200" y="353052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6"/>
          <p:cNvSpPr/>
          <p:nvPr/>
        </p:nvSpPr>
        <p:spPr>
          <a:xfrm>
            <a:off x="1550880" y="4373640"/>
            <a:ext cx="9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4"/>
          <p:cNvSpPr/>
          <p:nvPr/>
        </p:nvSpPr>
        <p:spPr>
          <a:xfrm flipV="1">
            <a:off x="1550880" y="4246560"/>
            <a:ext cx="83844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8"/>
          <p:cNvSpPr/>
          <p:nvPr/>
        </p:nvSpPr>
        <p:spPr>
          <a:xfrm>
            <a:off x="1584360" y="366084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2646360" y="39528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6"/>
          <p:cNvSpPr/>
          <p:nvPr/>
        </p:nvSpPr>
        <p:spPr>
          <a:xfrm>
            <a:off x="3873600" y="236520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7"/>
          <p:cNvSpPr/>
          <p:nvPr/>
        </p:nvSpPr>
        <p:spPr>
          <a:xfrm>
            <a:off x="4210200" y="227484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275000" y="40528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9"/>
          <p:cNvSpPr/>
          <p:nvPr/>
        </p:nvSpPr>
        <p:spPr>
          <a:xfrm>
            <a:off x="4114800" y="315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0"/>
          <p:cNvSpPr/>
          <p:nvPr/>
        </p:nvSpPr>
        <p:spPr>
          <a:xfrm flipH="1">
            <a:off x="433440" y="5159520"/>
            <a:ext cx="633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1"/>
          <p:cNvSpPr/>
          <p:nvPr/>
        </p:nvSpPr>
        <p:spPr>
          <a:xfrm>
            <a:off x="3245400" y="5102280"/>
            <a:ext cx="25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Fe + 3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4"/>
          <p:cNvSpPr/>
          <p:nvPr/>
        </p:nvSpPr>
        <p:spPr>
          <a:xfrm>
            <a:off x="2666880" y="1434960"/>
            <a:ext cx="517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 flipH="1">
            <a:off x="322200" y="1214280"/>
            <a:ext cx="633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Z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314520" y="1150920"/>
            <a:ext cx="210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4"/>
          <p:cNvSpPr/>
          <p:nvPr/>
        </p:nvSpPr>
        <p:spPr>
          <a:xfrm>
            <a:off x="2684520" y="1442880"/>
            <a:ext cx="517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457200" y="797040"/>
            <a:ext cx="5105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ки метали су реактивнији од других. Магнезијум је рецимо лако зап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в до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лато или други „племенити метали“ веома стабил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еђеност метала према њиховој реактивности се назива активни низ мета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активнији је литијум а најмање активно је зла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експерименту на вежбама проверићете активност метала који метали ће се оксидовати а који јони ће се редукова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тивни низ метала се назива још и напонски низ ме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867280" y="0"/>
          <a:ext cx="3048120" cy="6566040"/>
        </p:xfrm>
        <a:graphic>
          <a:graphicData uri="http://schemas.openxmlformats.org/drawingml/2006/table">
            <a:tbl>
              <a:tblPr/>
              <a:tblGrid>
                <a:gridCol w="1727280"/>
                <a:gridCol w="1320840"/>
              </a:tblGrid>
              <a:tr h="33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0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ат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3" name="Up Arrow 4"/>
          <p:cNvSpPr/>
          <p:nvPr/>
        </p:nvSpPr>
        <p:spPr>
          <a:xfrm>
            <a:off x="7924680" y="685800"/>
            <a:ext cx="381240" cy="54864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239760" y="228600"/>
            <a:ext cx="39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тивни низ ме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124080" y="165240"/>
          <a:ext cx="5867640" cy="5870520"/>
        </p:xfrm>
        <a:graphic>
          <a:graphicData uri="http://schemas.openxmlformats.org/drawingml/2006/table">
            <a:tbl>
              <a:tblPr/>
              <a:tblGrid>
                <a:gridCol w="1359000"/>
                <a:gridCol w="2135160"/>
                <a:gridCol w="1408320"/>
                <a:gridCol w="965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ја оксид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тивн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L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већ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јм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K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B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ц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триј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 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нез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M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мин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l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Z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r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3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вожђ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e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бал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i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n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n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b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b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u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g 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)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Hg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+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+2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6" name="Up Arrow 2"/>
          <p:cNvSpPr/>
          <p:nvPr/>
        </p:nvSpPr>
        <p:spPr>
          <a:xfrm>
            <a:off x="7086600" y="825480"/>
            <a:ext cx="380880" cy="488952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own Arrow 3"/>
          <p:cNvSpPr/>
          <p:nvPr/>
        </p:nvSpPr>
        <p:spPr>
          <a:xfrm>
            <a:off x="8153280" y="825480"/>
            <a:ext cx="381240" cy="48895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0" y="228600"/>
            <a:ext cx="30481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лакше се оксид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Најтеже се редуку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2960" y="5410080"/>
            <a:ext cx="293760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лакше се редуку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Најтеже се оксидује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937200" y="5715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мањ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8078760" y="57150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Најве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816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ак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ом се мери потенцијал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вол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J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стандардни редукциони потенцијал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98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.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 потенцијал било које врсте се мери у односу на редукциони потенцијал водо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=  0.0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80880" y="0"/>
            <a:ext cx="7848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дукцион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219400" y="1547640"/>
            <a:ext cx="452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+ 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 R 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s)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E =  ......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8"/>
          <p:cNvGrpSpPr/>
          <p:nvPr/>
        </p:nvGrpSpPr>
        <p:grpSpPr>
          <a:xfrm>
            <a:off x="0" y="0"/>
            <a:ext cx="8305920" cy="6854400"/>
            <a:chOff x="0" y="0"/>
            <a:chExt cx="8305920" cy="6854400"/>
          </a:xfrm>
        </p:grpSpPr>
        <p:sp>
          <p:nvSpPr>
            <p:cNvPr id="206" name="Rectangle 2"/>
            <p:cNvSpPr/>
            <p:nvPr/>
          </p:nvSpPr>
          <p:spPr>
            <a:xfrm>
              <a:off x="228600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"/>
            <p:cNvSpPr/>
            <p:nvPr/>
          </p:nvSpPr>
          <p:spPr>
            <a:xfrm>
              <a:off x="3733920" y="914400"/>
              <a:ext cx="1066680" cy="5334120"/>
            </a:xfrm>
            <a:prstGeom prst="rect">
              <a:avLst/>
            </a:prstGeom>
            <a:gradFill rotWithShape="0">
              <a:gsLst>
                <a:gs pos="0">
                  <a:srgbClr val="8cadea"/>
                </a:gs>
                <a:gs pos="100000">
                  <a:srgbClr val="dee6f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2370600" y="5791320"/>
              <a:ext cx="213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+ 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Li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s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367360" y="914400"/>
              <a:ext cx="228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(g)  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2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2F-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aq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7"/>
            <p:cNvSpPr/>
            <p:nvPr/>
          </p:nvSpPr>
          <p:spPr>
            <a:xfrm>
              <a:off x="3276720" y="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ј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аче оксида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8"/>
            <p:cNvSpPr/>
            <p:nvPr/>
          </p:nvSpPr>
          <p:spPr>
            <a:xfrm>
              <a:off x="0" y="22860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позитивн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 врдност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ff0000"/>
                  </a:solidFill>
                  <a:latin typeface="Arial"/>
                </a:rPr>
                <a:t>Е</a:t>
              </a:r>
              <a:r>
                <a:rPr b="1" lang="sr-CS" sz="1800" spc="-1" strike="noStrike" baseline="30000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ff0000"/>
                  </a:solidFill>
                  <a:latin typeface="Arial"/>
                </a:rPr>
                <a:t>red </a:t>
              </a:r>
              <a:r>
                <a:rPr b="1" lang="sr-Latn-CS" sz="1800" spc="-1" strike="noStrike">
                  <a:solidFill>
                    <a:srgbClr val="ff0000"/>
                  </a:solidFill>
                  <a:latin typeface="Arial"/>
                </a:rPr>
                <a:t> = +2.87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9"/>
            <p:cNvSpPr/>
            <p:nvPr/>
          </p:nvSpPr>
          <p:spPr>
            <a:xfrm>
              <a:off x="5257800" y="5562720"/>
              <a:ext cx="30481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Највиш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негативн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a</a:t>
              </a:r>
              <a:r>
                <a:rPr b="1" lang="sr-CS" sz="1800" spc="-1" strike="noStrike">
                  <a:solidFill>
                    <a:srgbClr val="0070c0"/>
                  </a:solidFill>
                  <a:latin typeface="Arial"/>
                </a:rPr>
                <a:t>  врдност Е</a:t>
              </a:r>
              <a:r>
                <a:rPr b="1" lang="sr-CS" sz="1800" spc="-1" strike="noStrike" baseline="30000">
                  <a:solidFill>
                    <a:srgbClr val="0070c0"/>
                  </a:solidFill>
                  <a:latin typeface="Arial"/>
                </a:rPr>
                <a:t>о</a:t>
              </a:r>
              <a:r>
                <a:rPr b="1" lang="sr-Latn-CS" sz="1800" spc="-1" strike="noStrike" baseline="-25000">
                  <a:solidFill>
                    <a:srgbClr val="0070c0"/>
                  </a:solidFill>
                  <a:latin typeface="Arial"/>
                </a:rPr>
                <a:t>red</a:t>
              </a:r>
              <a:r>
                <a:rPr b="1" lang="sr-Latn-CS" sz="1800" spc="-1" strike="noStrike">
                  <a:solidFill>
                    <a:srgbClr val="0070c0"/>
                  </a:solidFill>
                  <a:latin typeface="Arial"/>
                </a:rPr>
                <a:t> = - 3.05 V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0"/>
            <p:cNvSpPr/>
            <p:nvPr/>
          </p:nvSpPr>
          <p:spPr>
            <a:xfrm>
              <a:off x="5029200" y="62118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ајјаче редукционо сред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 rot="16200000">
              <a:off x="-649800" y="3326400"/>
              <a:ext cx="55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0000"/>
                  </a:solidFill>
                  <a:latin typeface="Arial"/>
                </a:rPr>
                <a:t>Расте  јачина оксида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12"/>
            <p:cNvSpPr/>
            <p:nvPr/>
          </p:nvSpPr>
          <p:spPr>
            <a:xfrm rot="5400000">
              <a:off x="2348640" y="3366360"/>
              <a:ext cx="542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70c0"/>
                  </a:solidFill>
                  <a:latin typeface="Arial"/>
                </a:rPr>
                <a:t>Расте  јачина  редукционих способност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421720" y="3276720"/>
              <a:ext cx="207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Н</a:t>
              </a:r>
              <a:r>
                <a:rPr b="0" lang="sr-Latn-CS" sz="20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</a:t>
              </a:r>
              <a:r>
                <a:rPr b="0" lang="sr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Latn-C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(g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733920" y="57150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2286000" y="914400"/>
              <a:ext cx="685800" cy="53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Straight Arrow Connector 17"/>
            <p:cNvCxnSpPr>
              <a:stCxn id="210" idx="1"/>
            </p:cNvCxnSpPr>
            <p:nvPr/>
          </p:nvCxnSpPr>
          <p:spPr>
            <a:xfrm flipH="1">
              <a:off x="2437920" y="323640"/>
              <a:ext cx="838800" cy="591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Straight Arrow Connector 19"/>
            <p:cNvCxnSpPr>
              <a:stCxn id="213" idx="1"/>
              <a:endCxn id="217" idx="2"/>
            </p:cNvCxnSpPr>
            <p:nvPr/>
          </p:nvCxnSpPr>
          <p:spPr>
            <a:xfrm flipH="1" flipV="1">
              <a:off x="4075920" y="6247800"/>
              <a:ext cx="952920" cy="286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Straight Arrow Connector 23"/>
            <p:cNvCxnSpPr/>
            <p:nvPr/>
          </p:nvCxnSpPr>
          <p:spPr>
            <a:xfrm flipV="1">
              <a:off x="1904760" y="3885480"/>
              <a:ext cx="2160" cy="1524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Straight Arrow Connector 25"/>
            <p:cNvCxnSpPr/>
            <p:nvPr/>
          </p:nvCxnSpPr>
          <p:spPr>
            <a:xfrm flipH="1">
              <a:off x="5257440" y="1523520"/>
              <a:ext cx="2160" cy="1524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</p:cxnSp>
      </p:grpSp>
      <p:sp>
        <p:nvSpPr>
          <p:cNvPr id="223" name="Rectangle 37"/>
          <p:cNvSpPr/>
          <p:nvPr/>
        </p:nvSpPr>
        <p:spPr>
          <a:xfrm>
            <a:off x="2286000" y="3276720"/>
            <a:ext cx="23623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8"/>
          <p:cNvSpPr/>
          <p:nvPr/>
        </p:nvSpPr>
        <p:spPr>
          <a:xfrm>
            <a:off x="5222520" y="3276720"/>
            <a:ext cx="1877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ff0000"/>
                </a:solidFill>
                <a:latin typeface="Arial"/>
              </a:rPr>
              <a:t>о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red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=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943600" y="533520"/>
            <a:ext cx="266688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4800600" y="1219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4572000" y="3733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228600"/>
            <a:ext cx="8839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9999"/>
                </a:solidFill>
                <a:latin typeface="Arial"/>
              </a:rPr>
              <a:t>ЕЛЕКТРОХЕМ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Област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физичк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хеми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која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испитуј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оцесе</a:t>
            </a:r>
            <a:r>
              <a:rPr b="0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9999"/>
                </a:solidFill>
                <a:latin typeface="Arial"/>
              </a:rPr>
              <a:t>преноса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електр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57600" y="45496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руч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тосинт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електив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о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оз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179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2895480" y="3048120"/>
            <a:ext cx="2092320" cy="160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2463840" cy="181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Nokia 3100"/>
          <p:cNvPicPr/>
          <p:nvPr/>
        </p:nvPicPr>
        <p:blipFill>
          <a:blip r:embed="rId4"/>
          <a:stretch/>
        </p:blipFill>
        <p:spPr>
          <a:xfrm>
            <a:off x="7315200" y="1981080"/>
            <a:ext cx="1066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5"/>
          <a:stretch/>
        </p:blipFill>
        <p:spPr>
          <a:xfrm>
            <a:off x="0" y="4419720"/>
            <a:ext cx="23036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6"/>
          <a:stretch/>
        </p:blipFill>
        <p:spPr>
          <a:xfrm>
            <a:off x="1981080" y="5029200"/>
            <a:ext cx="169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0"/>
          <a:ext cx="4191120" cy="6867360"/>
        </p:xfrm>
        <a:graphic>
          <a:graphicData uri="http://schemas.openxmlformats.org/drawingml/2006/table">
            <a:tbl>
              <a:tblPr/>
              <a:tblGrid>
                <a:gridCol w="2457360"/>
                <a:gridCol w="173376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2"/>
          <p:cNvSpPr/>
          <p:nvPr/>
        </p:nvSpPr>
        <p:spPr>
          <a:xfrm>
            <a:off x="4667400" y="3792600"/>
            <a:ext cx="4343400" cy="301860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438800" y="-38160"/>
            <a:ext cx="4572000" cy="301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а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ук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акш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ксиду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Up Arrow 6"/>
          <p:cNvSpPr/>
          <p:nvPr/>
        </p:nvSpPr>
        <p:spPr>
          <a:xfrm>
            <a:off x="4438800" y="1314360"/>
            <a:ext cx="514080" cy="5562720"/>
          </a:xfrm>
          <a:prstGeom prst="up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сте способност оксид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7"/>
          <p:cNvSpPr/>
          <p:nvPr/>
        </p:nvSpPr>
        <p:spPr>
          <a:xfrm>
            <a:off x="8782200" y="914400"/>
            <a:ext cx="457200" cy="5943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Расте способност реду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304920" y="3049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бличне вред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ш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же редук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0"/>
            <a:ext cx="7772400" cy="330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04920" y="3124080"/>
            <a:ext cx="7772400" cy="40644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0880" y="3581280"/>
            <a:ext cx="77724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оксидацију, реакција је реверзна и потенцијал има супротан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-1.359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0.00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(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° = +2.925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теш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лако оксид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80880" y="144792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600"/>
                <a:gridCol w="2106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10"/>
          <p:cNvSpPr/>
          <p:nvPr/>
        </p:nvSpPr>
        <p:spPr>
          <a:xfrm>
            <a:off x="609480" y="3276720"/>
            <a:ext cx="8229600" cy="1295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2 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aq) + 2 e- 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Zn(s)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7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685800" y="4876920"/>
            <a:ext cx="8153280" cy="1154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u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red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и и Оксидаци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енцијал имају исту апсолутну вредност али су супротног знака, ако је оксидациони потенцијал позитиван тада је редукциони негативан и обрнут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4"/>
          <p:cNvSpPr/>
          <p:nvPr/>
        </p:nvSpPr>
        <p:spPr>
          <a:xfrm>
            <a:off x="5271840" y="220968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 је спонт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21_04"/>
          <p:cNvPicPr/>
          <p:nvPr/>
        </p:nvPicPr>
        <p:blipFill>
          <a:blip r:embed="rId1"/>
          <a:stretch/>
        </p:blipFill>
        <p:spPr>
          <a:xfrm>
            <a:off x="38160" y="2611440"/>
            <a:ext cx="5200560" cy="4160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0" y="235080"/>
            <a:ext cx="5486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ида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Zn2+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) + 2e-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334120" y="0"/>
            <a:ext cx="3809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оцес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теч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понтано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аствору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ек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ров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ол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цинка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oj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лочиц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т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бакар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здвајаће се елемент који има већи редукциони потенциј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2072880" y="914400"/>
            <a:ext cx="33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 - 0.7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995840" y="167652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o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TB20_001"/>
          <p:cNvPicPr/>
          <p:nvPr/>
        </p:nvPicPr>
        <p:blipFill>
          <a:blip r:embed="rId2"/>
          <a:srcRect l="0" t="0" r="30022" b="38"/>
          <a:stretch/>
        </p:blipFill>
        <p:spPr>
          <a:xfrm>
            <a:off x="5562720" y="2895480"/>
            <a:ext cx="33526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48" name="Straight Arrow Connector 8"/>
          <p:cNvCxnSpPr/>
          <p:nvPr/>
        </p:nvCxnSpPr>
        <p:spPr>
          <a:xfrm>
            <a:off x="4876920" y="53341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49" name="Straight Arrow Connector 11"/>
          <p:cNvCxnSpPr/>
          <p:nvPr/>
        </p:nvCxnSpPr>
        <p:spPr>
          <a:xfrm>
            <a:off x="4876920" y="6019920"/>
            <a:ext cx="83880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250" name="TextBox 9"/>
          <p:cNvSpPr/>
          <p:nvPr/>
        </p:nvSpPr>
        <p:spPr>
          <a:xfrm>
            <a:off x="5562720" y="2895480"/>
            <a:ext cx="358128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тандардни редуциони потенцијал 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2"/>
          <p:cNvSpPr/>
          <p:nvPr/>
        </p:nvSpPr>
        <p:spPr>
          <a:xfrm>
            <a:off x="304920" y="117360"/>
            <a:ext cx="8610480" cy="69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мент ће се оксидовати у раствору другог метала ако је његов потенцијал редукције негативнији или мање позитиван, при чему ће тај процес ће бити 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410080" y="2362320"/>
          <a:ext cx="3276720" cy="3108240"/>
        </p:xfrm>
        <a:graphic>
          <a:graphicData uri="http://schemas.openxmlformats.org/drawingml/2006/table">
            <a:tbl>
              <a:tblPr/>
              <a:tblGrid>
                <a:gridCol w="1067040"/>
                <a:gridCol w="22096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укциони потенцијал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28600" y="1752480"/>
            <a:ext cx="426708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тал  ће се оксидовати  и притом растварати у киселинама  ако је његов потенцијал редукције негативнији, од потенцијала редукције водоника ри чему ће тај процес ће бити спонт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Н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+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g)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E =  0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E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495680" y="1676520"/>
          <a:ext cx="4419720" cy="4838760"/>
        </p:xfrm>
        <a:graphic>
          <a:graphicData uri="http://schemas.openxmlformats.org/drawingml/2006/table">
            <a:tbl>
              <a:tblPr/>
              <a:tblGrid>
                <a:gridCol w="3505320"/>
                <a:gridCol w="914400"/>
              </a:tblGrid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6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, што је и искоришћено у хемијским изворима струје, који се називају напонске или галванске ћелије или популарно батер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7"/>
          <p:cNvSpPr/>
          <p:nvPr/>
        </p:nvSpPr>
        <p:spPr>
          <a:xfrm>
            <a:off x="1905120" y="415296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8"/>
          <p:cNvSpPr/>
          <p:nvPr/>
        </p:nvSpPr>
        <p:spPr>
          <a:xfrm>
            <a:off x="1905120" y="483876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9"/>
          <p:cNvSpPr/>
          <p:nvPr/>
        </p:nvSpPr>
        <p:spPr>
          <a:xfrm>
            <a:off x="1905120" y="552456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0"/>
          <p:cNvSpPr/>
          <p:nvPr/>
        </p:nvSpPr>
        <p:spPr>
          <a:xfrm>
            <a:off x="1295280" y="518148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1"/>
          <p:cNvSpPr/>
          <p:nvPr/>
        </p:nvSpPr>
        <p:spPr>
          <a:xfrm>
            <a:off x="1295280" y="449568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52"/>
          <p:cNvSpPr/>
          <p:nvPr/>
        </p:nvSpPr>
        <p:spPr>
          <a:xfrm>
            <a:off x="685800" y="415296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3"/>
          <p:cNvSpPr/>
          <p:nvPr/>
        </p:nvSpPr>
        <p:spPr>
          <a:xfrm>
            <a:off x="685800" y="483876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4"/>
          <p:cNvSpPr/>
          <p:nvPr/>
        </p:nvSpPr>
        <p:spPr>
          <a:xfrm>
            <a:off x="685800" y="552456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5"/>
          <p:cNvSpPr/>
          <p:nvPr/>
        </p:nvSpPr>
        <p:spPr>
          <a:xfrm>
            <a:off x="1295280" y="380988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6"/>
          <p:cNvSpPr/>
          <p:nvPr/>
        </p:nvSpPr>
        <p:spPr>
          <a:xfrm>
            <a:off x="1295280" y="586728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7"/>
          <p:cNvSpPr/>
          <p:nvPr/>
        </p:nvSpPr>
        <p:spPr>
          <a:xfrm>
            <a:off x="3924360" y="346716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8"/>
          <p:cNvSpPr/>
          <p:nvPr/>
        </p:nvSpPr>
        <p:spPr>
          <a:xfrm>
            <a:off x="2514600" y="384804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3924360" y="586728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514600" y="518148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1"/>
          <p:cNvSpPr/>
          <p:nvPr/>
        </p:nvSpPr>
        <p:spPr>
          <a:xfrm>
            <a:off x="1918800" y="337500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AutoShape 85"/>
          <p:cNvCxnSpPr>
            <a:stCxn id="256" idx="0"/>
            <a:endCxn id="267" idx="0"/>
          </p:cNvCxnSpPr>
          <p:nvPr/>
        </p:nvCxnSpPr>
        <p:spPr>
          <a:xfrm flipH="1" flipV="1" rot="5400000">
            <a:off x="2400120" y="3695040"/>
            <a:ext cx="305640" cy="610560"/>
          </a:xfrm>
          <a:prstGeom prst="curvedConnector5">
            <a:avLst>
              <a:gd name="adj1" fmla="val 175000"/>
              <a:gd name="adj2" fmla="val 49970"/>
              <a:gd name="adj3" fmla="val 175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86"/>
          <p:cNvCxnSpPr>
            <a:stCxn id="258" idx="4"/>
            <a:endCxn id="268" idx="3"/>
          </p:cNvCxnSpPr>
          <p:nvPr/>
        </p:nvCxnSpPr>
        <p:spPr>
          <a:xfrm flipH="1" rot="16200000">
            <a:off x="3013560" y="5443200"/>
            <a:ext cx="243720" cy="1777320"/>
          </a:xfrm>
          <a:prstGeom prst="curvedConnector5">
            <a:avLst>
              <a:gd name="adj1" fmla="val 235207"/>
              <a:gd name="adj2" fmla="val 50000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87"/>
          <p:cNvCxnSpPr>
            <a:stCxn id="266" idx="1"/>
            <a:endCxn id="267" idx="7"/>
          </p:cNvCxnSpPr>
          <p:nvPr/>
        </p:nvCxnSpPr>
        <p:spPr>
          <a:xfrm rot="5400000">
            <a:off x="3371040" y="3295440"/>
            <a:ext cx="381600" cy="924840"/>
          </a:xfrm>
          <a:prstGeom prst="curvedConnector5">
            <a:avLst>
              <a:gd name="adj1" fmla="val -86213"/>
              <a:gd name="adj2" fmla="val 50000"/>
              <a:gd name="adj3" fmla="val -8621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274" name=""/>
          <p:cNvGraphicFramePr/>
          <p:nvPr/>
        </p:nvGraphicFramePr>
        <p:xfrm>
          <a:off x="4114800" y="3886200"/>
          <a:ext cx="5029200" cy="1554120"/>
        </p:xfrm>
        <a:graphic>
          <a:graphicData uri="http://schemas.openxmlformats.org/drawingml/2006/table">
            <a:tbl>
              <a:tblPr/>
              <a:tblGrid>
                <a:gridCol w="2154240"/>
                <a:gridCol w="768240"/>
                <a:gridCol w="210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0" y="0"/>
            <a:ext cx="9144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на оксидоредукционих реакција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ЛКОТЕ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стирање на алкохол возача се заснива на оксидоредукционом индикатору, у коме се одвија следећа оксидоредукциона реакција, у којој алкохол реагује са јоном дихро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2Cr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−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 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4Cr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2(aq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1H2O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ранж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еле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овој реакцији оксида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(l)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(aq)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e + H</a:t>
            </a:r>
            <a:r>
              <a:rPr b="1" lang="sr-Latn-CS" sz="24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sr-Latn-C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равнотежити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Cr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7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2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14H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6e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 2Cr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  <a:ea typeface="MS Mincho"/>
              </a:rPr>
              <a:t>3+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(aq) + 7H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MS Mincho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MS Mincho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 до промене боје из оранж у зелену, интензитет зелене боје је директно пропорционалан концентрацији алкохола који се налази у ваздуху који особа која се тестира издахне.  Метода је као што је познато врло прецизна и врло бр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564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04920" y="22860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ксидо редукционе реакци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 веома важне захваљујући њима мислимо, крећемо се и старимо али их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рећемо 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вакодневном живот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пример, пресечена јабука ће н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некол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 минута почети да добија по површини пресека браон боју, исто ће се дешавати и са другим воћем: бананом, крушкама,.... Изрезано воће ће се у присуству кисеоника који се налази у ваздуху оксидовати, дајући продукте који су браон боје. Ензим који се налази у воћу ће са кисеоником реаговати, познато је да ће се ова појава спречити ако се воће попрска лимуновим соком, или сирћетом. Киселина зауставља рад ензима, а лимун има и С витамин који је познати антиоксидан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tOxidation-ReduxI"/>
          <p:cNvPicPr/>
          <p:nvPr/>
        </p:nvPicPr>
        <p:blipFill>
          <a:blip r:embed="rId1"/>
          <a:stretch/>
        </p:blipFill>
        <p:spPr>
          <a:xfrm>
            <a:off x="762120" y="1523880"/>
            <a:ext cx="3009960" cy="225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tOxidation-ReduxII"/>
          <p:cNvPicPr/>
          <p:nvPr/>
        </p:nvPicPr>
        <p:blipFill>
          <a:blip r:embed="rId2"/>
          <a:stretch/>
        </p:blipFill>
        <p:spPr>
          <a:xfrm>
            <a:off x="4114800" y="1523880"/>
            <a:ext cx="3276720" cy="2449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0" y="228600"/>
            <a:ext cx="87631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Реакције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пренос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CS" sz="4800" spc="-1" strike="noStrike">
                <a:solidFill>
                  <a:srgbClr val="333399"/>
                </a:solidFill>
                <a:latin typeface="Arial"/>
              </a:rPr>
              <a:t>електрона</a:t>
            </a:r>
            <a:r>
              <a:rPr b="0" lang="sr-Latn-CS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нос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дукционе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1666440" y="411480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Ox    + 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7"/>
          <p:cNvCxnSpPr/>
          <p:nvPr/>
        </p:nvCxnSpPr>
        <p:spPr>
          <a:xfrm>
            <a:off x="2819520" y="43434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9"/>
          <p:cNvCxnSpPr/>
          <p:nvPr/>
        </p:nvCxnSpPr>
        <p:spPr>
          <a:xfrm flipH="1" flipV="1">
            <a:off x="2819160" y="44949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2821680" y="40384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2898000" y="4572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371600" y="1295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Ox(1)   +  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3"/>
          <p:cNvCxnSpPr/>
          <p:nvPr/>
        </p:nvCxnSpPr>
        <p:spPr>
          <a:xfrm>
            <a:off x="3200400" y="152352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Straight Arrow Connector 4"/>
          <p:cNvCxnSpPr/>
          <p:nvPr/>
        </p:nvCxnSpPr>
        <p:spPr>
          <a:xfrm flipH="1" flipV="1">
            <a:off x="3200040" y="167616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TextBox 5"/>
          <p:cNvSpPr/>
          <p:nvPr/>
        </p:nvSpPr>
        <p:spPr>
          <a:xfrm>
            <a:off x="3202560" y="12193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sid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202920" y="17524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k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1447920" y="2514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"/>
          <p:cNvCxnSpPr/>
          <p:nvPr/>
        </p:nvCxnSpPr>
        <p:spPr>
          <a:xfrm>
            <a:off x="3886200" y="274320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Straight Arrow Connector 9"/>
          <p:cNvCxnSpPr/>
          <p:nvPr/>
        </p:nvCxnSpPr>
        <p:spPr>
          <a:xfrm flipH="1" flipV="1">
            <a:off x="3885840" y="28947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Straight Connector 13"/>
          <p:cNvSpPr/>
          <p:nvPr/>
        </p:nvSpPr>
        <p:spPr>
          <a:xfrm>
            <a:off x="762120" y="3581280"/>
            <a:ext cx="723888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85800" y="3809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(1) + Ox(2)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Red(2) + Ox(1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/>
          <p:nvPr/>
        </p:nvCxnSpPr>
        <p:spPr>
          <a:xfrm flipV="1">
            <a:off x="4260960" y="4115520"/>
            <a:ext cx="10101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" name="Straight Arrow Connector 22"/>
          <p:cNvCxnSpPr/>
          <p:nvPr/>
        </p:nvCxnSpPr>
        <p:spPr>
          <a:xfrm flipH="1" flipV="1">
            <a:off x="4266720" y="4266360"/>
            <a:ext cx="915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" name="TextBox 1"/>
          <p:cNvSpPr/>
          <p:nvPr/>
        </p:nvSpPr>
        <p:spPr>
          <a:xfrm>
            <a:off x="314280" y="4991040"/>
            <a:ext cx="88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рој електрона који врста која се оксидује отпусти мора увек бити једнак броју електрона који врста која се редукује прими. Важи закон о сачувању укупне количине електрицитета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0" y="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ксидациони процес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 (</a:t>
            </a:r>
            <a:r>
              <a:rPr b="1" lang="sr-CS" sz="3200" spc="-1" strike="noStrike">
                <a:solidFill>
                  <a:srgbClr val="fc0128"/>
                </a:solidFill>
                <a:latin typeface="Arial"/>
              </a:rPr>
              <a:t>наелектрисање расте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пушт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сидац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  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о средст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37c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Редукциони процес</a:t>
            </a:r>
            <a:r>
              <a:rPr b="1" lang="en-US" sz="3200" spc="-1" strike="noStrike">
                <a:solidFill>
                  <a:srgbClr val="50009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500093"/>
                </a:solidFill>
                <a:latin typeface="Arial"/>
              </a:rPr>
              <a:t>наелектрисање опада</a:t>
            </a:r>
            <a:r>
              <a:rPr b="1" lang="en-US" sz="2800" spc="-1" strike="noStrike">
                <a:solidFill>
                  <a:srgbClr val="500093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мање електро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37c03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37c03"/>
                </a:solidFill>
                <a:latin typeface="Arial"/>
              </a:rPr>
              <a:t>оксидационо средств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Редокс процес је увек комбинација </a:t>
            </a:r>
            <a:r>
              <a:rPr b="1" lang="sr-Latn-CS" sz="3200" spc="-1" strike="noStrike">
                <a:solidFill>
                  <a:srgbClr val="00279f"/>
                </a:solidFill>
                <a:latin typeface="Arial"/>
              </a:rPr>
              <a:t> o</a:t>
            </a:r>
            <a:r>
              <a:rPr b="1" lang="sr-CS" sz="3200" spc="-1" strike="noStrike">
                <a:solidFill>
                  <a:srgbClr val="00279f"/>
                </a:solidFill>
                <a:latin typeface="Arial"/>
              </a:rPr>
              <a:t>ксидационог и редукционог процеса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FG04_12"/>
          <p:cNvPicPr/>
          <p:nvPr/>
        </p:nvPicPr>
        <p:blipFill>
          <a:blip r:embed="rId1"/>
          <a:srcRect l="-1715" t="0" r="0" b="48950"/>
          <a:stretch/>
        </p:blipFill>
        <p:spPr>
          <a:xfrm>
            <a:off x="2895480" y="4800600"/>
            <a:ext cx="3030480" cy="1181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0" y="489096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оксиду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губ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а сама је редук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53120" y="4876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упстанц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ује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лектроне, а сама је оксидационо сре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Правил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оксидационом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790015"/>
                </a:solidFill>
                <a:latin typeface="Arial"/>
              </a:rPr>
              <a:t>стањима</a:t>
            </a:r>
            <a:r>
              <a:rPr b="1" lang="sr-Latn-CS" sz="4000" spc="-1" strike="noStrike">
                <a:solidFill>
                  <a:srgbClr val="79001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0240" y="822240"/>
            <a:ext cx="5181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мент у слободном ст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x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ектрисањ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j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p1 = +1,  Grp2 = +2,  Grp7 = -1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F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O  = -2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, -1,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 H = +1: изузев када је везан за елемент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a, K…) H = -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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. бр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 ј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5398920" y="1862280"/>
            <a:ext cx="3745080" cy="4995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5383080" y="8222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 б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оксидациони бро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04920" y="304920"/>
          <a:ext cx="8839080" cy="6400800"/>
        </p:xfrm>
        <a:graphic>
          <a:graphicData uri="http://schemas.openxmlformats.org/drawingml/2006/table">
            <a:tbl>
              <a:tblPr/>
              <a:tblGrid>
                <a:gridCol w="5676840"/>
                <a:gridCol w="31622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Елементи имају оксидациони број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(s), Br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2( ),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4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с. бр. 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кидациони број елемената у моноатомским јонима је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ак је наелектрисању ј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−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ксидациони број кисеоника у једињењима је -2, мада има и изузетака (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2O2, OF2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 у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ксидациони број водоника у једињењима је +1, изузетак су метални хидриди где је оксидациони број водоника  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л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 ковалентним једињењима  која не садрже кисеоник или  водоник  електронегативнији елемент  има оксидациони број који је једнак негативном наелектрисању у његовим јонским једињењим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Cl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1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S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је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Сума оксидационих бројева свих елемената у једињењу је једнак 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F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−1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4) + 4(−1)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Сума оксидационих бројева свих елемената у полиатомском јону једнак је вредности наелектрисања јо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sr-Latn-C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2,  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3) + 2(−2) = −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09:04:53Z</dcterms:created>
  <dc:creator>korisnik</dc:creator>
  <dc:description/>
  <dc:language>en-US</dc:language>
  <cp:lastModifiedBy>Snezana Jovanovic</cp:lastModifiedBy>
  <dcterms:modified xsi:type="dcterms:W3CDTF">2023-11-09T08:52:22Z</dcterms:modified>
  <cp:revision>160</cp:revision>
  <dc:subject/>
  <dc:title>Slide 1</dc:title>
</cp:coreProperties>
</file>